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F9C-7309-4E67-AC15-032F2CCA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474-82E6-48DE-9230-7AF1E12A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6C8-6F7A-445E-8B1D-93981756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496-710A-45F2-B512-E9960ED8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C5D-D93A-4A9C-8B84-3A1077FE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D49-5414-4E0A-89BD-24643855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188-DEBD-4C07-B494-544D099B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EC6-5BBE-46AE-ABBD-21257361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65F-C3C8-44A9-B8D9-57D8CD3A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923-21FD-4E17-9EC4-D8DC11B3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D48-DC15-4EE4-9951-A7945224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A17-48BE-4B66-8706-A6577771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165D-2FF3-44C6-89BA-0FC0F03F1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8240" y="225360"/>
            <a:ext cx="844704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SM Implemen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440000"/>
            <a:ext cx="952956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:</a:t>
            </a:r>
            <a:br>
              <a:rPr sz="2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Calibration:  input flux at arbitrary frequency</a:t>
            </a:r>
            <a:br>
              <a:rPr sz="2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Image analysis:  compare source flux to catalog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able that can predict flux for all source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accessible with python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lmboldt et al. (2008) fits spectral model to 74 MHz sources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 =&gt; crude GSM ready to us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4520"/>
            <a:ext cx="8472600" cy="75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5520" y="325440"/>
            <a:ext cx="994104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get val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ery table with name or (RA, Dec) and frequen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ython, Java, or Web interf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 code for "stored procedure":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LECT alpha_gt_300 * LOG10(@nu/74) + LOG10(f_ext) AS 'linear: log F_{nu} (Jy)'</a:t>
            </a:r>
            <a:br>
              <a:rPr sz="27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    ,CASE WHEN param_a IS NULL</a:t>
            </a:r>
            <a:br>
              <a:rPr sz="27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          THEN NULL</a:t>
            </a:r>
            <a:br>
              <a:rPr sz="27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          ELSE param_a +</a:t>
            </a:r>
            <a:br>
              <a:rPr sz="27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               IFNULL(param_b, 0) * LOG10(@nu/74) +</a:t>
            </a:r>
            <a:br>
              <a:rPr sz="27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               IFNULL(param_c, 0) * EXP(IFNULL(param_d, 0) * LOG10(@nu/74))</a:t>
            </a:r>
            <a:br>
              <a:rPr sz="27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          END AS 'Kuehr: log F_{nu} (Jy)'</a:t>
            </a:r>
            <a:br>
              <a:rPr sz="27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FROM sources src</a:t>
            </a:r>
            <a:br>
              <a:rPr sz="27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    ,spectralparameters sp</a:t>
            </a:r>
            <a:br>
              <a:rPr sz="27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WHERE spectral_params_id = spectral_paramsid</a:t>
            </a:r>
            <a:br>
              <a:rPr sz="27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 AND src_name = @source_na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